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5E1C-6E61-4822-9D19-4284FFA2C222}"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573120" y="1336680"/>
            <a:ext cx="6413400" cy="3608280"/>
          </a:xfrm>
          <a:prstGeom prst="rect">
            <a:avLst/>
          </a:prstGeom>
          <a:ln w="0">
            <a:noFill/>
          </a:ln>
        </p:spPr>
      </p:sp>
      <p:sp>
        <p:nvSpPr>
          <p:cNvPr id="100"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1"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C74A-1DCC-4C07-9B75-D0323136995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CustomShape 1"/>
          <p:cNvSpPr/>
          <p:nvPr/>
        </p:nvSpPr>
        <p:spPr>
          <a:xfrm>
            <a:off x="287280" y="360360"/>
            <a:ext cx="8280360" cy="40514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Un logiciel de traitement de texte peut être utilisé dans ce but (ex. : LibreOffice Wri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9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TextShape 2"/>
          <p:cNvSpPr/>
          <p:nvPr/>
        </p:nvSpPr>
        <p:spPr>
          <a:xfrm>
            <a:off x="503280" y="1511280"/>
            <a:ext cx="5256000" cy="246636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pic>
        <p:nvPicPr>
          <p:cNvPr id="95" name="Image 87" descr=""/>
          <p:cNvPicPr/>
          <p:nvPr/>
        </p:nvPicPr>
        <p:blipFill>
          <a:blip r:embed="rId1"/>
          <a:stretch/>
        </p:blipFill>
        <p:spPr>
          <a:xfrm>
            <a:off x="6480000" y="1008000"/>
            <a:ext cx="2691000" cy="391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6"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7"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8"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38Z</dcterms:modified>
  <cp:revision>9</cp:revision>
  <dc:subject/>
  <dc:title>Présentation PowerPoint</dc:title>
</cp:coreProperties>
</file>