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8D995-7035-4B1D-8119-C804265E8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9ABFB-20B6-4D9A-A0D6-CC5A2FE6E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7E717-660D-45D5-B9D7-8BFB6472C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A2826-ECA0-4813-9D74-775D057DC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89D8E-4C1F-4ACC-9297-6283888F4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8910F-4DB7-4C35-A76E-EBC3CFAA7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A91D1-7BA2-4868-A357-B1565AA63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7251B-BFC5-4162-8E28-5DA4563B6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E421F-C995-47D3-B0ED-4A7FE767D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7AFE5-B4B9-4F67-8637-309D646CA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E20CE-741F-477A-A21D-194BFE187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BBB94-851B-45E5-A1A1-75577E65C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c9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A37D1-56E2-4ACB-8929-4748C96759F0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2CBA5-C25D-4B25-A1C4-0F8DE44E296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Rectangle 4" descr=""/>
          <p:cNvPicPr/>
          <p:nvPr/>
        </p:nvPicPr>
        <p:blipFill>
          <a:blip r:embed="rId1"/>
          <a:stretch/>
        </p:blipFill>
        <p:spPr>
          <a:xfrm>
            <a:off x="890640" y="-128520"/>
            <a:ext cx="10520280" cy="1073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2" name=""/>
          <p:cNvGraphicFramePr/>
          <p:nvPr/>
        </p:nvGraphicFramePr>
        <p:xfrm>
          <a:off x="291960" y="885960"/>
          <a:ext cx="11545920" cy="5794200"/>
        </p:xfrm>
        <a:graphic>
          <a:graphicData uri="http://schemas.openxmlformats.org/drawingml/2006/table">
            <a:tbl>
              <a:tblPr/>
              <a:tblGrid>
                <a:gridCol w="1360800"/>
                <a:gridCol w="868320"/>
                <a:gridCol w="911160"/>
                <a:gridCol w="928800"/>
                <a:gridCol w="1180800"/>
                <a:gridCol w="882720"/>
                <a:gridCol w="1271520"/>
                <a:gridCol w="1195560"/>
                <a:gridCol w="1182600"/>
                <a:gridCol w="1001880"/>
                <a:gridCol w="761760"/>
              </a:tblGrid>
              <a:tr h="57312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yle/Vil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ri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ncy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nt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rseil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yo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ordeau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eno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ulou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mie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57132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der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57168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nt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57276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tr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57168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lassiq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74916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rmes origina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79056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rmes courb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82080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ns opin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,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57312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9-23T19:50:21Z</dcterms:created>
  <dc:creator>Jean-Baptiste DESACHY</dc:creator>
  <dc:description/>
  <dc:language>en-US</dc:language>
  <cp:lastModifiedBy>Jean-Baptiste DESACHY</cp:lastModifiedBy>
  <dcterms:modified xsi:type="dcterms:W3CDTF">2021-04-18T06:23:30Z</dcterms:modified>
  <cp:revision>6</cp:revision>
  <dc:subject/>
  <dc:title>Présentation PowerPoint</dc:title>
</cp:coreProperties>
</file>