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3CB7-D2C6-41C2-B58C-E5BDEAB3D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85B4-9EB7-4597-A091-B56B8EF0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4356-A422-4AB0-B673-CD818DE6B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7987-1991-49AB-A58D-EF4200EAE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5233-0EFE-47C3-8A2F-F142158D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2B0E-038C-4281-9BC4-B4CC5C9C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5CDC-A5B0-405A-A8EB-9115CEB3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F81D-EEAA-439A-984F-D1C73E04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D7CD-9822-4607-9F33-41F72DB4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B30B-0756-4ECF-A0B4-C7DDA211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B186-C8F3-4602-8913-0292FBD5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F910-89DB-43B0-B34B-5485C19A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671B-69C3-4113-9000-FE4EE10B5040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63E3-83C8-414D-80D3-E75D303FC2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1"/>
          <a:stretch/>
        </p:blipFill>
        <p:spPr>
          <a:xfrm>
            <a:off x="890640" y="-128520"/>
            <a:ext cx="10520280" cy="107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291960" y="885960"/>
          <a:ext cx="11545920" cy="5794200"/>
        </p:xfrm>
        <a:graphic>
          <a:graphicData uri="http://schemas.openxmlformats.org/drawingml/2006/table">
            <a:tbl>
              <a:tblPr/>
              <a:tblGrid>
                <a:gridCol w="1360800"/>
                <a:gridCol w="868320"/>
                <a:gridCol w="911160"/>
                <a:gridCol w="928800"/>
                <a:gridCol w="1180800"/>
                <a:gridCol w="882720"/>
                <a:gridCol w="1271520"/>
                <a:gridCol w="1195560"/>
                <a:gridCol w="1182600"/>
                <a:gridCol w="1001880"/>
                <a:gridCol w="761760"/>
              </a:tblGrid>
              <a:tr h="573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/V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c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e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y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rdea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no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ul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ie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3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27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491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s origin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905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s cour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8208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s 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3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23T19:50:21Z</dcterms:created>
  <dc:creator>Jean-Baptiste DESACHY</dc:creator>
  <dc:description/>
  <dc:language>en-US</dc:language>
  <cp:lastModifiedBy>Jean-Baptiste DESACHY</cp:lastModifiedBy>
  <dcterms:modified xsi:type="dcterms:W3CDTF">2021-04-18T06:23:30Z</dcterms:modified>
  <cp:revision>6</cp:revision>
  <dc:subject/>
  <dc:title>Présentation PowerPoint</dc:title>
</cp:coreProperties>
</file>