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C50-92CA-45C5-8C4A-26F46B693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D17-5278-4C30-A58B-C797978D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80E-288F-408D-B3C1-81341052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02B9-8D79-45DC-82B4-46197B7F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FAE-09CD-471C-BC8B-0A9D4E43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5C9-FEB6-47A3-AB13-14DF4FE5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5333-4D01-4F3B-B5B0-95E8C40B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89D6-E768-430A-B635-286E4674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906-935E-41AE-A972-D49D37208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CF7-C6D8-43A3-8E75-1E49265C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1267-1389-45A5-A159-0DF2BCFB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1A16-4825-4F53-B647-30282082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00125-AB15-4DDE-8009-986C01B5CA1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8F5F-6F5A-43C3-80D7-86297EE4E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4" descr=""/>
          <p:cNvPicPr/>
          <p:nvPr/>
        </p:nvPicPr>
        <p:blipFill>
          <a:blip r:embed="rId1"/>
          <a:stretch/>
        </p:blipFill>
        <p:spPr>
          <a:xfrm>
            <a:off x="890640" y="-128520"/>
            <a:ext cx="10520280" cy="107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291960" y="885960"/>
          <a:ext cx="11545920" cy="5794200"/>
        </p:xfrm>
        <a:graphic>
          <a:graphicData uri="http://schemas.openxmlformats.org/drawingml/2006/table">
            <a:tbl>
              <a:tblPr/>
              <a:tblGrid>
                <a:gridCol w="1360800"/>
                <a:gridCol w="868320"/>
                <a:gridCol w="911160"/>
                <a:gridCol w="928800"/>
                <a:gridCol w="1180800"/>
                <a:gridCol w="882720"/>
                <a:gridCol w="1271520"/>
                <a:gridCol w="1195560"/>
                <a:gridCol w="1182600"/>
                <a:gridCol w="1001880"/>
                <a:gridCol w="761760"/>
              </a:tblGrid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yle/V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eil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y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rdea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o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ul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e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t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27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r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16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49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origi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90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es cour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080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s opi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573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3T19:50:21Z</dcterms:created>
  <dc:creator>Jean-Baptiste DESACHY</dc:creator>
  <dc:description/>
  <dc:language>en-US</dc:language>
  <cp:lastModifiedBy>Jean-Baptiste DESACHY</cp:lastModifiedBy>
  <dcterms:modified xsi:type="dcterms:W3CDTF">2021-04-18T06:23:30Z</dcterms:modified>
  <cp:revision>6</cp:revision>
  <dc:subject/>
  <dc:title>Présentation PowerPoint</dc:title>
</cp:coreProperties>
</file>