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F646C-54F0-48DA-AAB0-ACEBCC909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F1A67-F935-446E-98CE-E1535E2E2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8098B-0482-4867-89A5-C57147880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5BA4AA-452A-485D-AF79-36BC09373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27B26-82A8-4807-B4AF-15151063F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9202C-9850-4882-8DAA-6B7BCA526C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0FE2B-0010-4DAE-BCAD-E45AAD2B2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41EBD-85C0-4008-92E0-B0359A552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907175-CB5E-4557-9A4E-762C76018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B8438-B295-4D8D-AC2E-9E3AB5436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7A42E-CC10-4455-B829-CDE116BE8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CF25B-D8D6-4159-8865-07E3E5BC65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9c9c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4809C-87D6-4B74-8502-B3158E3ECFB3}" type="datetime">
              <a:rPr b="0" lang="fr-FR"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49D5B-6B11-4E70-8A1C-01933EEC6551}"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ad47"/>
        </a:solidFill>
      </p:bgPr>
    </p:bg>
    <p:spTree>
      <p:nvGrpSpPr>
        <p:cNvPr id="1" name=""/>
        <p:cNvGrpSpPr/>
        <p:nvPr/>
      </p:nvGrpSpPr>
      <p:grpSpPr>
        <a:xfrm>
          <a:off x="0" y="0"/>
          <a:ext cx="0" cy="0"/>
          <a:chOff x="0" y="0"/>
          <a:chExt cx="0" cy="0"/>
        </a:xfrm>
      </p:grpSpPr>
      <p:pic>
        <p:nvPicPr>
          <p:cNvPr id="41" name="Rectangle 4" descr=""/>
          <p:cNvPicPr/>
          <p:nvPr/>
        </p:nvPicPr>
        <p:blipFill>
          <a:blip r:embed="rId1"/>
          <a:stretch/>
        </p:blipFill>
        <p:spPr>
          <a:xfrm>
            <a:off x="701640" y="-414360"/>
            <a:ext cx="10569600" cy="2352600"/>
          </a:xfrm>
          <a:prstGeom prst="rect">
            <a:avLst/>
          </a:prstGeom>
          <a:ln w="0">
            <a:noFill/>
          </a:ln>
        </p:spPr>
      </p:pic>
      <p:sp>
        <p:nvSpPr>
          <p:cNvPr id="42" name="ZoneTexte 4"/>
          <p:cNvSpPr/>
          <p:nvPr/>
        </p:nvSpPr>
        <p:spPr>
          <a:xfrm>
            <a:off x="490680" y="1163520"/>
            <a:ext cx="1100124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 sondage est une enquête ponctuelle réalisée auprès d’un échantillon représentatif de la population étudiée. Les résultats obtenus auprès de l’échantillon sont ensuite extrapolés à la population étudié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terme de sondage est souvent utilisé au sens large pour désigner les enquêtes réalisées dans le domaine politique ou dans le domaine des opin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études quantitatives réalisées dans le domaine marketing utilisent également le principe de sondage sur un échantillon limité.</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ans notre sondage, nous pouvons constater que suivant les villes, les goûts des gens ne sont pas les mêmes. Dans les plus grandes villes, les gens préfèrent un style d’objets plutôt « vintage » alors que dans les villes plus rurales, les personnes sondées préfèrent davantage un style moderne ou travaill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23T19:50:21Z</dcterms:created>
  <dc:creator>Jean-Baptiste DESACHY</dc:creator>
  <dc:description/>
  <dc:language>en-US</dc:language>
  <cp:lastModifiedBy>Jean-Baptiste DESACHY</cp:lastModifiedBy>
  <dcterms:modified xsi:type="dcterms:W3CDTF">2021-04-18T06:25:24Z</dcterms:modified>
  <cp:revision>6</cp:revision>
  <dc:subject/>
  <dc:title>Présentation PowerPoint</dc:title>
</cp:coreProperties>
</file>